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63B-8F15-4CBF-89CB-30E245A7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6DA-93D0-4EE0-96C1-D55C67C0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02B-5098-4F9C-801A-B8F11FDF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62A-4459-4125-BC49-3E46922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A92-C79A-4372-8D42-BEAECAB8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8B-2AB5-4542-8FCB-1874427B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771-7C3A-4D4D-ABDF-7BECE16E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F47-7F27-473E-9A6E-DDE3C1C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495-E90A-4D55-8BA4-2E3E650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A7A-46AF-41F1-A4D5-AA592DB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41E-F49F-4BC3-BE03-7CA08D0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A8C-2DC8-4BAD-8F76-EC8CCBA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1FEC-B1D6-46D7-A941-B52854CC3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oney%20Tunes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00996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43434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Um dia, uma pequena abertura apareceu num casulo; um homem sentou e observou a borboleta por várias horas, conforme ela se esforçava para fazer com que seu corpo passasse através daquele pequeno bura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ção da Borbol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219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avores... e Deus deu-me oport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azwhirl2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atolino%201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9625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não recebi nada do que pedi... mas eu recebi tudo de que precisav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0160" y="558720"/>
            <a:ext cx="407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ELIZ SEMANA DA AMIZAD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00" y="2239920"/>
            <a:ext cx="8890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É a semana Nacional da Amizade. Mostre a seus amigos o quanto você se importa com eles. Envie isto a todo mundo a quem você considera um AMIGO, mesmo que isso signifique mandar para a mesma pessoa que lhe enviou. Se esta mensagem voltar para você, pode ficar certo de que o seu círculo de amizade é composto de verdadeir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u-piu%201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atolino%20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sylvest" descr=""/>
          <p:cNvPicPr/>
          <p:nvPr/>
        </p:nvPicPr>
        <p:blipFill>
          <a:blip r:embed="rId3"/>
          <a:stretch/>
        </p:blipFill>
        <p:spPr>
          <a:xfrm>
            <a:off x="0" y="46483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tazs" descr=""/>
          <p:cNvPicPr/>
          <p:nvPr/>
        </p:nvPicPr>
        <p:blipFill>
          <a:blip r:embed="rId4"/>
          <a:stretch/>
        </p:blipFill>
        <p:spPr>
          <a:xfrm>
            <a:off x="4191120" y="52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ernalonga%204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10951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83808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pareceu que ela havia parado de fazer qualquer progr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ia que ela tinha ido o mais longe que podia, e não conseguia ir 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u-piu%202" descr=""/>
          <p:cNvPicPr/>
          <p:nvPr/>
        </p:nvPicPr>
        <p:blipFill>
          <a:blip r:embed="rId1"/>
          <a:stretch/>
        </p:blipFill>
        <p:spPr>
          <a:xfrm>
            <a:off x="3581280" y="2066760"/>
            <a:ext cx="16480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u-piu%20baby%20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0476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83808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ão o homem decidiu ajudar a borboleta: ele pegou uma tesoura e cortou o restante do casulo. A borboleta então saiu faci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seu corpo estava murcho e era pequeno e tinha as asas amas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z11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2952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continuou a observá-la,  porque ele esperava que, a qualquer momento, as asas dela se abrissem e esticassem para serem capazes de suportar o corpo que iria se afirmar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u-piu%20baby%20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143080" cy="3314520"/>
          </a:xfrm>
          <a:prstGeom prst="rect">
            <a:avLst/>
          </a:prstGeom>
          <a:ln w="0">
            <a:noFill/>
          </a:ln>
        </p:spPr>
      </p:pic>
      <p:pic>
        <p:nvPicPr>
          <p:cNvPr id="51" name="Pernalonga%201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524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u-piu%20baby%202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333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209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a aconteceu! Na verdade, a borboleta passou o resto de sua vida rastejando com um corpo murcho e asas encolhidas. Ela nunca foi capaz de vo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rnalonga%20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60948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o homem, em sua gentileza e vontade de ajudar não compreendia, era que o casulo apertado e o esforço necessário à borboleta para passar através da pequena abertura era o modo pelo qual Deus fazia com que o fluído do corpo da borboleta fosse para as suas asas, de forma que ela estaria pronta para voar uma vez que estivesse livre do cas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az_standing" descr=""/>
          <p:cNvPicPr/>
          <p:nvPr/>
        </p:nvPicPr>
        <p:blipFill>
          <a:blip r:embed="rId1"/>
          <a:stretch/>
        </p:blipFill>
        <p:spPr>
          <a:xfrm>
            <a:off x="152280" y="4172040"/>
            <a:ext cx="20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Pernalonga%203" descr=""/>
          <p:cNvPicPr/>
          <p:nvPr/>
        </p:nvPicPr>
        <p:blipFill>
          <a:blip r:embed="rId2"/>
          <a:stretch/>
        </p:blipFill>
        <p:spPr>
          <a:xfrm>
            <a:off x="7354800" y="609480"/>
            <a:ext cx="154152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52388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vezes, o esforço é justamente o que precisamos em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us nos permitisse passar através de nossas vidas sem quaisquer obstáculos, ele nos deixaria aleijados. Nós não iríamos ser tão fortes como poderíamos ter sido. Nós nunca poderíamos vo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os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182736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u-piu%20baby%205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3080" cy="34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858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orças... e Deus deu-me dificuldades para fazer-me f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sabedoria... e Deus deu-me problemas par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rnalonga%202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1524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4648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prosperidade... e Deus deu-me cérebro e músculos para trabal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u-piu%20baby%203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8140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295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coragem... e Deus deu-me obstáculos  para supe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az1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857320" cy="20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98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amor... e Deus deu-me pessoas com problemas para aju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0:18:05Z</dcterms:created>
  <dc:creator>MPAS/assessoria especial</dc:creator>
  <dc:description/>
  <dc:language>en-US</dc:language>
  <cp:lastModifiedBy>Rui Manuel Guerra Bandarra</cp:lastModifiedBy>
  <cp:lastPrinted>1999-12-07T21:19:08Z</cp:lastPrinted>
  <dcterms:modified xsi:type="dcterms:W3CDTF">2000-07-09T10:52:16Z</dcterms:modified>
  <cp:revision>21</cp:revision>
  <dc:subject/>
  <dc:title>Slide sem título </dc:title>
</cp:coreProperties>
</file>