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C7F-A342-461E-AD06-2521E7C2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953-8E89-4D0F-BB65-671AE5E1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278-35C8-4873-82C5-45D1C30E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CFB-FB64-430A-8768-7708D5C1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37B-16D9-49BE-A32B-42AB422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00E-8F85-41A1-A757-BBD352B4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1D7-018F-4E80-989F-FA8C9CA2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057-6CFA-4E5F-B98E-E403AD38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3DC-63E0-41D3-AD38-8CA9D556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02B-8A3D-4755-A1A0-7B311F01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614-6DBA-456A-9491-BF2A660D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0AF-EE5E-4610-93CA-708BD26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7BE9-C785-45E4-8CD5-5B491664F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oney%20Tunes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00996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43434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"Um dia, uma pequena abertura apareceu num casulo; um homem sentou e observou a borboleta por várias horas, conforme ela se esforçava para fazer com que seu corpo passasse através daquele pequeno bura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ção da Borbol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2193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favores... e Deus deu-me oport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azwhirl2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70" name="Patolino%201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39625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não recebi nada do que pedi... mas eu recebi tudo de que precisava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0160" y="558720"/>
            <a:ext cx="4076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FELIZ SEMANA DA AMIZADE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600" y="2239920"/>
            <a:ext cx="8890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É a semana Nacional da Amizade. Mostre a seus amigos o quanto você se importa com eles. Envie isto a todo mundo a quem você considera um AMIGO, mesmo que isso signifique mandar para a mesma pessoa que lhe enviou. Se esta mensagem voltar para você, pode ficar certo de que o seu círculo de amizade é composto de verdadeir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u-piu%201" descr=""/>
          <p:cNvPicPr/>
          <p:nvPr/>
        </p:nvPicPr>
        <p:blipFill>
          <a:blip r:embed="rId1"/>
          <a:stretch/>
        </p:blipFill>
        <p:spPr>
          <a:xfrm>
            <a:off x="7543800" y="68580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77" name="Patolino%202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sylvest" descr=""/>
          <p:cNvPicPr/>
          <p:nvPr/>
        </p:nvPicPr>
        <p:blipFill>
          <a:blip r:embed="rId3"/>
          <a:stretch/>
        </p:blipFill>
        <p:spPr>
          <a:xfrm>
            <a:off x="0" y="46483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tazs" descr=""/>
          <p:cNvPicPr/>
          <p:nvPr/>
        </p:nvPicPr>
        <p:blipFill>
          <a:blip r:embed="rId4"/>
          <a:stretch/>
        </p:blipFill>
        <p:spPr>
          <a:xfrm>
            <a:off x="4191120" y="52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ernalonga%204" descr=""/>
          <p:cNvPicPr/>
          <p:nvPr/>
        </p:nvPicPr>
        <p:blipFill>
          <a:blip r:embed="rId5"/>
          <a:stretch/>
        </p:blipFill>
        <p:spPr>
          <a:xfrm>
            <a:off x="7848720" y="4648320"/>
            <a:ext cx="109512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838080"/>
            <a:ext cx="541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 pareceu que ela havia parado de fazer qualquer progr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ecia que ela tinha ido o mais longe que podia, e não conseguia ir 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u-piu%202" descr=""/>
          <p:cNvPicPr/>
          <p:nvPr/>
        </p:nvPicPr>
        <p:blipFill>
          <a:blip r:embed="rId1"/>
          <a:stretch/>
        </p:blipFill>
        <p:spPr>
          <a:xfrm>
            <a:off x="3581280" y="2066760"/>
            <a:ext cx="1648080" cy="258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u-piu%20baby%20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904760" cy="371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838080"/>
            <a:ext cx="54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ão o homem decidiu ajudar a borboleta: ele pegou uma tesoura e cortou o restante do casulo. A borboleta então saiu faci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seu corpo estava murcho e era pequeno e tinha as asas amas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az11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1800" y="12952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homem continuou a observá-la,  porque ele esperava que, a qualquer momento, as asas dela se abrissem e esticassem para serem capazes de suportar o corpo que iria se afirmar a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u-piu%20baby%201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143080" cy="3314520"/>
          </a:xfrm>
          <a:prstGeom prst="rect">
            <a:avLst/>
          </a:prstGeom>
          <a:ln w="0">
            <a:noFill/>
          </a:ln>
        </p:spPr>
      </p:pic>
      <p:pic>
        <p:nvPicPr>
          <p:cNvPr id="51" name="Pernalonga%201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5242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u-piu%20baby%202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333396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2209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a aconteceu! Na verdade, a borboleta passou o resto de sua vida rastejando com um corpo murcho e asas encolhidas. Ela nunca foi capaz de vo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ernalonga%205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38104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609480"/>
            <a:ext cx="518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o homem, em sua gentileza e vontade de ajudar não compreendia, era que o casulo apertado e o esforço necessário à borboleta para passar através da pequena abertura era o modo pelo qual Deus fazia com que o fluído do corpo da borboleta fosse para as suas asas, de forma que ela estaria pronta para voar uma vez que estivesse livre do cas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az_standing" descr=""/>
          <p:cNvPicPr/>
          <p:nvPr/>
        </p:nvPicPr>
        <p:blipFill>
          <a:blip r:embed="rId1"/>
          <a:stretch/>
        </p:blipFill>
        <p:spPr>
          <a:xfrm>
            <a:off x="152280" y="4172040"/>
            <a:ext cx="20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7" name="Pernalonga%203" descr=""/>
          <p:cNvPicPr/>
          <p:nvPr/>
        </p:nvPicPr>
        <p:blipFill>
          <a:blip r:embed="rId2"/>
          <a:stretch/>
        </p:blipFill>
        <p:spPr>
          <a:xfrm>
            <a:off x="7354800" y="609480"/>
            <a:ext cx="1541520" cy="404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52680" y="1523880"/>
            <a:ext cx="541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mas vezes, o esforço é justamente o que precisamos em noss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us nos permitisse passar através de nossas vidas sem quaisquer obstáculos, ele nos deixaria aleijados. Nós não iríamos ser tão fortes como poderíamos ter sido. Nós nunca poderíamos vo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os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1827360" cy="3481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u-piu%20baby%205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3080" cy="34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6858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forças... e Deus deu-me dificuldades para fazer-me f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sabedoria... e Deus deu-me problemas para resol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ernalonga%202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152424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4648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prosperidade... e Deus deu-me cérebro e músculos para trabalh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u-piu%20baby%203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81400" cy="299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1295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coragem... e Deus deu-me obstáculos  para supe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taz1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857320" cy="20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9880" y="4419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amor... e Deus deu-me pessoas com problemas para aju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20:18:05Z</dcterms:created>
  <dc:creator>MPAS/assessoria especial</dc:creator>
  <dc:description/>
  <dc:language>en-US</dc:language>
  <cp:lastModifiedBy>Rui Manuel Guerra Bandarra</cp:lastModifiedBy>
  <cp:lastPrinted>1999-12-07T21:19:08Z</cp:lastPrinted>
  <dcterms:modified xsi:type="dcterms:W3CDTF">2000-07-09T10:52:16Z</dcterms:modified>
  <cp:revision>21</cp:revision>
  <dc:subject/>
  <dc:title>Slide sem título </dc:title>
</cp:coreProperties>
</file>